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4038120"/>
            <a:ext cx="7315200" cy="7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816440"/>
            <a:ext cx="7315200" cy="7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4038120"/>
            <a:ext cx="3569760" cy="7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4038120"/>
            <a:ext cx="3569760" cy="7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816440"/>
            <a:ext cx="3569760" cy="7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816440"/>
            <a:ext cx="3569760" cy="7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4038120"/>
            <a:ext cx="2355120" cy="7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4038120"/>
            <a:ext cx="2355120" cy="7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4038120"/>
            <a:ext cx="2355120" cy="7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816440"/>
            <a:ext cx="2355120" cy="7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816440"/>
            <a:ext cx="2355120" cy="7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816440"/>
            <a:ext cx="2355120" cy="7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14400" y="4038120"/>
            <a:ext cx="73152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4038120"/>
            <a:ext cx="73152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4038120"/>
            <a:ext cx="356976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3080" y="4038120"/>
            <a:ext cx="356976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3152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4038120"/>
            <a:ext cx="3569760" cy="7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080" y="4038120"/>
            <a:ext cx="356976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14400" y="4816440"/>
            <a:ext cx="3569760" cy="7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4038120"/>
            <a:ext cx="73152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4038120"/>
            <a:ext cx="356976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3080" y="4038120"/>
            <a:ext cx="3569760" cy="7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3080" y="4816440"/>
            <a:ext cx="3569760" cy="7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4038120"/>
            <a:ext cx="3569760" cy="7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080" y="4038120"/>
            <a:ext cx="3569760" cy="7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4816440"/>
            <a:ext cx="7315200" cy="7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4038120"/>
            <a:ext cx="7315200" cy="7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14400" y="4816440"/>
            <a:ext cx="7315200" cy="7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4038120"/>
            <a:ext cx="3569760" cy="7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3080" y="4038120"/>
            <a:ext cx="3569760" cy="7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4816440"/>
            <a:ext cx="3569760" cy="7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3080" y="4816440"/>
            <a:ext cx="3569760" cy="7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4038120"/>
            <a:ext cx="2355120" cy="7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87600" y="4038120"/>
            <a:ext cx="2355120" cy="7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860800" y="4038120"/>
            <a:ext cx="2355120" cy="7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14400" y="4816440"/>
            <a:ext cx="2355120" cy="7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87600" y="4816440"/>
            <a:ext cx="2355120" cy="7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860800" y="4816440"/>
            <a:ext cx="2355120" cy="7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4038120"/>
            <a:ext cx="73152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4038120"/>
            <a:ext cx="356976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4038120"/>
            <a:ext cx="356976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3152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4038120"/>
            <a:ext cx="3569760" cy="7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4038120"/>
            <a:ext cx="356976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816440"/>
            <a:ext cx="3569760" cy="7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4038120"/>
            <a:ext cx="356976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4038120"/>
            <a:ext cx="3569760" cy="7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816440"/>
            <a:ext cx="3569760" cy="7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4038120"/>
            <a:ext cx="3569760" cy="7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4038120"/>
            <a:ext cx="3569760" cy="7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816440"/>
            <a:ext cx="7315200" cy="7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228600" indent="-22716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627120" indent="-28404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1712880" indent="-22860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4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5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6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1440" indent="0" algn="ctr">
              <a:lnSpc>
                <a:spcPct val="109000"/>
              </a:lnSpc>
              <a:spcBef>
                <a:spcPts val="1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343080" algn="ctr">
              <a:lnSpc>
                <a:spcPct val="109000"/>
              </a:lnSpc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85716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4" marL="120024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5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6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92320" y="3003480"/>
            <a:ext cx="677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054080" y="514836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algn="ctr">
              <a:lnSpc>
                <a:spcPct val="109000"/>
              </a:lnSpc>
              <a:spcBef>
                <a:spcPts val="13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4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أبريل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19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58120" y="399888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61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80600" y="1809720"/>
            <a:ext cx="8293320" cy="5018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marL="290520" indent="-290520" algn="r" rtl="1">
              <a:lnSpc>
                <a:spcPct val="10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11111"/>
                </a:solidFill>
                <a:latin typeface="Times New Roman"/>
                <a:cs typeface="Simplified Arabic"/>
              </a:rPr>
              <a:t>تقييم وأختبار عمل المراجعة الداخلية عن طريق التأكد من 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 algn="r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Times New Roman"/>
                <a:cs typeface="Simplified Arabic"/>
              </a:rPr>
              <a:t>مدى اعتماد المراجع الخارجى على المراجعة الداخلية</a:t>
            </a:r>
            <a:br>
              <a:rPr sz="1600"/>
            </a:br>
            <a:br>
              <a:rPr sz="1600"/>
            </a:br>
            <a:r>
              <a:rPr b="1" lang="ar-SA" sz="1600" spc="-1" strike="noStrike">
                <a:solidFill>
                  <a:srgbClr val="111111"/>
                </a:solidFill>
                <a:latin typeface="Times New Roman"/>
                <a:ea typeface="Simplified Arabic"/>
              </a:rPr>
              <a:t> </a:t>
            </a:r>
            <a:r>
              <a:rPr b="0" lang="ar-SA" sz="3600" spc="-1" strike="noStrike">
                <a:solidFill>
                  <a:srgbClr val="111111"/>
                </a:solidFill>
                <a:latin typeface="Times New Roman"/>
                <a:ea typeface="Simplified Arabic"/>
              </a:rPr>
              <a:t>3</a:t>
            </a:r>
            <a:r>
              <a:rPr b="0" lang="ar-SA" sz="3600" spc="-1" strike="noStrike">
                <a:solidFill>
                  <a:srgbClr val="111111"/>
                </a:solidFill>
                <a:latin typeface="Times New Roman"/>
                <a:ea typeface="Simplified Arabic"/>
              </a:rPr>
              <a:t>- تقييم واختبارعمل المراجعة الداخلية</a:t>
            </a:r>
            <a:r>
              <a:rPr b="0" lang="ar-SA" sz="2000" spc="-1" strike="noStrike">
                <a:solidFill>
                  <a:srgbClr val="111111"/>
                </a:solidFill>
                <a:latin typeface="Times New Roman"/>
                <a:ea typeface="Simplified Arabic"/>
              </a:rPr>
              <a:t> </a:t>
            </a:r>
            <a:r>
              <a:rPr b="0" lang="ar-SA" sz="1600" spc="-1" strike="noStrike">
                <a:solidFill>
                  <a:srgbClr val="111111"/>
                </a:solidFill>
                <a:latin typeface="Times New Roman"/>
                <a:ea typeface="Simplified Arabic"/>
              </a:rPr>
              <a:t>(</a:t>
            </a:r>
            <a:r>
              <a:rPr b="0" lang="ar-SA" sz="1600" spc="-1" strike="noStrike">
                <a:solidFill>
                  <a:srgbClr val="111111"/>
                </a:solidFill>
                <a:latin typeface="Times New Roman"/>
                <a:ea typeface="Simplified Arabic"/>
              </a:rPr>
              <a:t>2</a:t>
            </a:r>
            <a:r>
              <a:rPr b="0" lang="ar-SA" sz="1600" spc="-1" strike="noStrike">
                <a:solidFill>
                  <a:srgbClr val="111111"/>
                </a:solidFill>
                <a:latin typeface="Times New Roman"/>
                <a:ea typeface="Simplified Arabic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7560" y="2576520"/>
            <a:ext cx="75567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 fontScale="65000"/>
          </a:bodyPr>
          <a:p>
            <a:pPr lvl="1" marL="430200" indent="-179280" algn="r" rtl="1">
              <a:lnSpc>
                <a:spcPct val="109000"/>
              </a:lnSpc>
              <a:buClr>
                <a:srgbClr val="33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111111"/>
                </a:solidFill>
                <a:latin typeface="Times New Roman"/>
                <a:cs typeface="Simplified Arabic"/>
              </a:rPr>
              <a:t>أن العمل قد تم بواسطة اشخاص فنيين مؤهلين ومديرين بدرجة كافية وأن المساعدين كانوا تحت اشراف مناسب 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2760" y="3419640"/>
            <a:ext cx="77230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 fontScale="88000"/>
          </a:bodyPr>
          <a:p>
            <a:pPr marL="752760" indent="-327960" algn="r" rtl="1">
              <a:lnSpc>
                <a:spcPct val="109000"/>
              </a:lnSpc>
              <a:buClr>
                <a:srgbClr val="3399ff"/>
              </a:buClr>
              <a:buFont typeface="Wingdings" charset="2"/>
              <a:buChar char="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ar-SA" sz="1800" spc="-1" strike="noStrike">
                <a:solidFill>
                  <a:srgbClr val="111111"/>
                </a:solidFill>
                <a:latin typeface="Times New Roman"/>
                <a:cs typeface="Simplified Arabic"/>
              </a:rPr>
              <a:t>يوجد ادلة مناسبة كافية لتأييد الرأى الذى وصل اليه المراجع الداخلى 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7200" y="4098960"/>
            <a:ext cx="7557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 fontScale="64000"/>
          </a:bodyPr>
          <a:p>
            <a:pPr marL="609480" indent="-238680" algn="r" rtl="1">
              <a:lnSpc>
                <a:spcPct val="109000"/>
              </a:lnSpc>
              <a:buClr>
                <a:srgbClr val="3399ff"/>
              </a:buClr>
              <a:buFont typeface="Wingdings" charset="2"/>
              <a:buChar char="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ar-SA" sz="1800" spc="-1" strike="noStrike">
                <a:solidFill>
                  <a:srgbClr val="111111"/>
                </a:solidFill>
                <a:latin typeface="Times New Roman"/>
                <a:cs typeface="Simplified Arabic"/>
              </a:rPr>
              <a:t>ان النتائج التى وصل اليها المراجع الداخلى مناسبة وأن التقرير الصادر متفق مع هذه النتائج 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4560" y="4957920"/>
            <a:ext cx="8320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/>
          </a:bodyPr>
          <a:p>
            <a:pPr marL="1614600" indent="-373320" algn="r" rtl="1">
              <a:lnSpc>
                <a:spcPct val="109000"/>
              </a:lnSpc>
              <a:buClr>
                <a:srgbClr val="3399ff"/>
              </a:buClr>
              <a:buFont typeface="Wingdings" charset="2"/>
              <a:buChar char=""/>
              <a:tabLst>
                <a:tab algn="l" pos="95256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ar-SA" sz="1800" spc="-1" strike="noStrike">
                <a:solidFill>
                  <a:srgbClr val="111111"/>
                </a:solidFill>
                <a:latin typeface="Times New Roman"/>
                <a:cs typeface="Simplified Arabic"/>
              </a:rPr>
              <a:t>أنه قد تم ايجاد حلول للأمور الغير عادية او الغير متكررة 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0680" y="4289400"/>
            <a:ext cx="831996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/>
          </a:bodyPr>
          <a:p>
            <a:pPr marL="1338120" indent="-372960" algn="r" rtl="1">
              <a:lnSpc>
                <a:spcPct val="109000"/>
              </a:lnSpc>
              <a:buClr>
                <a:srgbClr val="3399ff"/>
              </a:buClr>
              <a:buFont typeface="Times New Roman"/>
              <a:buChar char="•"/>
              <a:tabLst>
                <a:tab algn="l" pos="124308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80600" y="1809720"/>
            <a:ext cx="8293320" cy="5018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 fontScale="92000"/>
          </a:bodyPr>
          <a:p>
            <a:pPr marL="267120" indent="-267120" algn="r" rtl="1">
              <a:lnSpc>
                <a:spcPct val="10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11111"/>
                </a:solidFill>
                <a:latin typeface="Times New Roman"/>
                <a:cs typeface="Simplified Arabic"/>
              </a:rPr>
              <a:t>يجب مناقشة خطط المراجعة الداخلية مبكراً مع الاتفاق مسبقا على 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 algn="r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Times New Roman"/>
                <a:cs typeface="Simplified Arabic"/>
              </a:rPr>
              <a:t>مدى اعتماد المراجع الخارجى على المراجعة الداخلية</a:t>
            </a:r>
            <a:br>
              <a:rPr sz="1600"/>
            </a:br>
            <a:br>
              <a:rPr sz="1600"/>
            </a:br>
            <a:r>
              <a:rPr b="1" lang="ar-SA" sz="1600" spc="-1" strike="noStrike">
                <a:solidFill>
                  <a:srgbClr val="111111"/>
                </a:solidFill>
                <a:latin typeface="Times New Roman"/>
                <a:ea typeface="Simplified Arabic"/>
              </a:rPr>
              <a:t> </a:t>
            </a:r>
            <a:r>
              <a:rPr b="0" lang="ar-SA" sz="3600" spc="-1" strike="noStrike">
                <a:solidFill>
                  <a:srgbClr val="111111"/>
                </a:solidFill>
                <a:latin typeface="Times New Roman"/>
                <a:ea typeface="Simplified Arabic"/>
              </a:rPr>
              <a:t>3</a:t>
            </a:r>
            <a:r>
              <a:rPr b="0" lang="ar-SA" sz="3600" spc="-1" strike="noStrike">
                <a:solidFill>
                  <a:srgbClr val="111111"/>
                </a:solidFill>
                <a:latin typeface="Times New Roman"/>
                <a:ea typeface="Simplified Arabic"/>
              </a:rPr>
              <a:t>- تقييم واختبارعمل المراجعة الداخلية</a:t>
            </a:r>
            <a:r>
              <a:rPr b="0" lang="ar-SA" sz="2000" spc="-1" strike="noStrike">
                <a:solidFill>
                  <a:srgbClr val="111111"/>
                </a:solidFill>
                <a:latin typeface="Times New Roman"/>
                <a:ea typeface="Simplified Arabic"/>
              </a:rPr>
              <a:t> </a:t>
            </a:r>
            <a:r>
              <a:rPr b="0" lang="ar-SA" sz="1600" spc="-1" strike="noStrike">
                <a:solidFill>
                  <a:srgbClr val="111111"/>
                </a:solidFill>
                <a:latin typeface="Times New Roman"/>
                <a:ea typeface="Simplified Arabic"/>
              </a:rPr>
              <a:t>(</a:t>
            </a:r>
            <a:r>
              <a:rPr b="0" lang="ar-SA" sz="1600" spc="-1" strike="noStrike">
                <a:solidFill>
                  <a:srgbClr val="111111"/>
                </a:solidFill>
                <a:latin typeface="Times New Roman"/>
                <a:ea typeface="Simplified Arabic"/>
              </a:rPr>
              <a:t>3</a:t>
            </a:r>
            <a:r>
              <a:rPr b="0" lang="ar-SA" sz="1600" spc="-1" strike="noStrike">
                <a:solidFill>
                  <a:srgbClr val="111111"/>
                </a:solidFill>
                <a:latin typeface="Times New Roman"/>
                <a:ea typeface="Simplified Arabic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0400" y="2436840"/>
            <a:ext cx="75567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/>
          </a:bodyPr>
          <a:p>
            <a:pPr lvl="1" marL="662040" indent="-276120" algn="r" rtl="1">
              <a:lnSpc>
                <a:spcPct val="109000"/>
              </a:lnSpc>
              <a:buClr>
                <a:srgbClr val="33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111111"/>
                </a:solidFill>
                <a:latin typeface="Times New Roman"/>
                <a:cs typeface="Simplified Arabic"/>
              </a:rPr>
              <a:t>مستوى تغطية عملية المراجعة</a:t>
            </a:r>
            <a:r>
              <a:rPr b="0" lang="ar-SA" sz="1800" spc="-1" strike="noStrike">
                <a:solidFill>
                  <a:srgbClr val="111111"/>
                </a:solidFill>
                <a:latin typeface="Times New Roman"/>
                <a:ea typeface="Simplified Arabic"/>
              </a:rPr>
              <a:t> 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7800" y="3098880"/>
            <a:ext cx="77230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/>
          </a:bodyPr>
          <a:p>
            <a:pPr marL="855720" indent="-372960" algn="r" rtl="1">
              <a:lnSpc>
                <a:spcPct val="109000"/>
              </a:lnSpc>
              <a:buClr>
                <a:srgbClr val="3399ff"/>
              </a:buClr>
              <a:buFont typeface="Wingdings" charset="2"/>
              <a:buChar char="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ar-SA" sz="1800" spc="-1" strike="noStrike">
                <a:solidFill>
                  <a:srgbClr val="111111"/>
                </a:solidFill>
                <a:latin typeface="Times New Roman"/>
                <a:cs typeface="Simplified Arabic"/>
              </a:rPr>
              <a:t>مستوى الاختبارات التى سيتم اداؤها 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3656160"/>
            <a:ext cx="75582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/>
          </a:bodyPr>
          <a:p>
            <a:pPr marL="952560" indent="-372960" algn="r" rtl="1">
              <a:lnSpc>
                <a:spcPct val="109000"/>
              </a:lnSpc>
              <a:buClr>
                <a:srgbClr val="3399ff"/>
              </a:buClr>
              <a:buFont typeface="Wingdings" charset="2"/>
              <a:buChar char="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ar-SA" sz="1800" spc="-1" strike="noStrike">
                <a:solidFill>
                  <a:srgbClr val="111111"/>
                </a:solidFill>
                <a:latin typeface="Times New Roman"/>
                <a:cs typeface="Simplified Arabic"/>
              </a:rPr>
              <a:t>طرق الحصول على عينات المراجعة 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4040" y="4278240"/>
            <a:ext cx="831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/>
          </a:bodyPr>
          <a:p>
            <a:pPr marL="1614600" indent="-373320" algn="r" rtl="1">
              <a:lnSpc>
                <a:spcPct val="109000"/>
              </a:lnSpc>
              <a:buClr>
                <a:srgbClr val="3399ff"/>
              </a:buClr>
              <a:buFont typeface="Wingdings" charset="2"/>
              <a:buChar char=""/>
              <a:tabLst>
                <a:tab algn="l" pos="95256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ar-SA" sz="1800" spc="-1" strike="noStrike">
                <a:solidFill>
                  <a:srgbClr val="111111"/>
                </a:solidFill>
                <a:latin typeface="Times New Roman"/>
                <a:cs typeface="Simplified Arabic"/>
              </a:rPr>
              <a:t>التوثيق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0680" y="4913280"/>
            <a:ext cx="831996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/>
          </a:bodyPr>
          <a:p>
            <a:pPr marL="1338120" indent="-372960" algn="r" rtl="1">
              <a:lnSpc>
                <a:spcPct val="109000"/>
              </a:lnSpc>
              <a:buClr>
                <a:srgbClr val="3399ff"/>
              </a:buClr>
              <a:buFont typeface="Wingdings" charset="2"/>
              <a:buChar char=""/>
              <a:tabLst>
                <a:tab algn="l" pos="124308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ar-SA" sz="1800" spc="-1" strike="noStrike">
                <a:solidFill>
                  <a:srgbClr val="111111"/>
                </a:solidFill>
                <a:latin typeface="Times New Roman"/>
                <a:cs typeface="Simplified Arabic"/>
              </a:rPr>
              <a:t>اجراءات كتابة التقارير 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6120" y="5756400"/>
            <a:ext cx="83199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 fontScale="79000"/>
          </a:bodyPr>
          <a:p>
            <a:pPr marL="304560" indent="-294840" algn="r" rtl="1">
              <a:lnSpc>
                <a:spcPct val="109000"/>
              </a:lnSpc>
              <a:buClr>
                <a:srgbClr val="3399ff"/>
              </a:buClr>
              <a:buFont typeface="Times New Roman"/>
              <a:buChar char="•"/>
              <a:tabLst>
                <a:tab algn="l" pos="385920"/>
                <a:tab algn="l" pos="56664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ar-SA" sz="1800" spc="-1" strike="noStrike">
                <a:solidFill>
                  <a:srgbClr val="111111"/>
                </a:solidFill>
                <a:latin typeface="Times New Roman"/>
                <a:cs typeface="Simplified Arabic"/>
              </a:rPr>
              <a:t>بالإضافة الى الاجتماع بصفة منتظمة خلال الفترة المالية محل المراجعة 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80600" y="1809720"/>
            <a:ext cx="8293320" cy="5018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marL="290520" indent="-290520" algn="r" rtl="1">
              <a:lnSpc>
                <a:spcPct val="109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</a:rPr>
              <a:t>امثلة على الخدمات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 algn="r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ar-SA" sz="1600" spc="-1" strike="noStrike">
                <a:solidFill>
                  <a:srgbClr val="111111"/>
                </a:solidFill>
                <a:latin typeface="Times New Roman"/>
                <a:ea typeface="Simplified Arabic"/>
              </a:rPr>
              <a:t> </a:t>
            </a:r>
            <a:r>
              <a:rPr b="0" lang="ar-EG" sz="3600" spc="-1" strike="noStrike">
                <a:solidFill>
                  <a:srgbClr val="111111"/>
                </a:solidFill>
                <a:latin typeface="Times New Roman"/>
                <a:cs typeface="Simplified Arabic"/>
              </a:rPr>
              <a:t>اعتماد المراجع على عمل المؤسسات الخدمية التى تستعين بها المنشأ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14560" y="2347920"/>
            <a:ext cx="77230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 fontScale="80000"/>
          </a:bodyPr>
          <a:p>
            <a:pPr marL="606960" indent="-529560" algn="r" rtl="1">
              <a:lnSpc>
                <a:spcPct val="109000"/>
              </a:lnSpc>
              <a:buClr>
                <a:srgbClr val="3399ff"/>
              </a:buClr>
              <a:buFont typeface="Times New Roman"/>
              <a:buChar char="•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rial"/>
              </a:rPr>
              <a:t>تفهم طبيعة الخدمة</a:t>
            </a:r>
            <a:endParaRPr b="0" lang="en-US" sz="25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85800" y="2865600"/>
            <a:ext cx="75582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 fontScale="79000"/>
          </a:bodyPr>
          <a:p>
            <a:pPr marL="828720" indent="-523800" algn="r" rtl="1">
              <a:lnSpc>
                <a:spcPct val="109000"/>
              </a:lnSpc>
              <a:buClr>
                <a:srgbClr val="3399ff"/>
              </a:buClr>
              <a:buFont typeface="Times New Roman"/>
              <a:buChar char="•"/>
              <a:tabLst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rial"/>
              </a:rPr>
              <a:t>الأثر على تخطيط عملية المراجعة</a:t>
            </a:r>
            <a:endParaRPr b="0" lang="en-US" sz="25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8960" y="3363840"/>
            <a:ext cx="831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 fontScale="99000"/>
          </a:bodyPr>
          <a:p>
            <a:pPr marL="750960" indent="-559440" algn="r" rtl="1">
              <a:lnSpc>
                <a:spcPct val="109000"/>
              </a:lnSpc>
              <a:buClr>
                <a:srgbClr val="3399ff"/>
              </a:buClr>
              <a:buFont typeface="Times New Roman"/>
              <a:buChar char="•"/>
              <a:tabLst>
                <a:tab algn="l" pos="75888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rial"/>
              </a:rPr>
              <a:t>تحديد مخاطر المراجعة</a:t>
            </a:r>
            <a:endParaRPr b="0" lang="en-US" sz="25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1520" y="3986280"/>
            <a:ext cx="83199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 fontScale="90000"/>
          </a:bodyPr>
          <a:p>
            <a:pPr marL="770040" indent="-595800" algn="r" rtl="1">
              <a:lnSpc>
                <a:spcPct val="109000"/>
              </a:lnSpc>
              <a:buClr>
                <a:srgbClr val="3399ff"/>
              </a:buClr>
              <a:buFont typeface="Times New Roman"/>
              <a:buChar char="•"/>
              <a:tabLst>
                <a:tab algn="l" pos="124308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rial"/>
              </a:rPr>
              <a:t>تقييم مخاطر الرقابة</a:t>
            </a:r>
            <a:endParaRPr b="0" lang="en-US" sz="25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24040" y="4565520"/>
            <a:ext cx="831996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 fontScale="89000"/>
          </a:bodyPr>
          <a:p>
            <a:pPr marL="847440" indent="-504000" algn="r" rtl="1">
              <a:lnSpc>
                <a:spcPct val="109000"/>
              </a:lnSpc>
              <a:buClr>
                <a:srgbClr val="3399ff"/>
              </a:buClr>
              <a:buFont typeface="Times New Roman"/>
              <a:buChar char="•"/>
              <a:tabLst>
                <a:tab algn="l" pos="56664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rial"/>
              </a:rPr>
              <a:t>الحصول على ادلة مراجعة من خلال سجلات المؤسسة الخدمية</a:t>
            </a:r>
            <a:endParaRPr b="0" lang="en-US" sz="25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24040" y="5369040"/>
            <a:ext cx="83199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 fontScale="83000"/>
          </a:bodyPr>
          <a:p>
            <a:pPr marL="790560" indent="-470160" algn="r" rtl="1">
              <a:lnSpc>
                <a:spcPct val="109000"/>
              </a:lnSpc>
              <a:buClr>
                <a:srgbClr val="3399ff"/>
              </a:buClr>
              <a:buFont typeface="Times New Roman"/>
              <a:buChar char="•"/>
              <a:tabLst>
                <a:tab algn="l" pos="56664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rial"/>
              </a:rPr>
              <a:t>عدم الحصول على ادلة مراجعة من خلال سجلات المؤسسة الخدمية</a:t>
            </a:r>
            <a:endParaRPr b="0" lang="en-US" sz="25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 algn="r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111111"/>
                </a:solidFill>
                <a:latin typeface="Times New Roman"/>
              </a:rPr>
              <a:t>تحديد مخاطر المراجعة</a:t>
            </a: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77760" y="3123720"/>
            <a:ext cx="6524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lvl="1" marL="228600" indent="-227160" algn="r" rtl="1">
              <a:lnSpc>
                <a:spcPct val="99000"/>
              </a:lnSpc>
              <a:spcBef>
                <a:spcPts val="1363"/>
              </a:spcBef>
              <a:buClr>
                <a:srgbClr val="3399ff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2100" spc="-1" strike="noStrike">
                <a:solidFill>
                  <a:srgbClr val="111111"/>
                </a:solidFill>
                <a:latin typeface="Arial"/>
                <a:cs typeface="Arial"/>
              </a:rPr>
              <a:t>طبيعة الخدمة المقدمة</a:t>
            </a:r>
            <a:endParaRPr b="0" lang="en-US" sz="2100" spc="-1" strike="noStrike">
              <a:solidFill>
                <a:srgbClr val="111111"/>
              </a:solidFill>
              <a:latin typeface="Arial"/>
            </a:endParaRPr>
          </a:p>
          <a:p>
            <a:pPr lvl="1" marL="228600" indent="-227160" algn="r" rtl="1">
              <a:lnSpc>
                <a:spcPct val="99000"/>
              </a:lnSpc>
              <a:spcBef>
                <a:spcPts val="1363"/>
              </a:spcBef>
              <a:buClr>
                <a:srgbClr val="3399ff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2100" spc="-1" strike="noStrike">
                <a:solidFill>
                  <a:srgbClr val="111111"/>
                </a:solidFill>
                <a:latin typeface="Arial"/>
                <a:cs typeface="Arial"/>
              </a:rPr>
              <a:t>مقدار السلطة المخولة لمؤسسة الخدمات</a:t>
            </a:r>
            <a:endParaRPr b="0" lang="en-US" sz="2100" spc="-1" strike="noStrike">
              <a:solidFill>
                <a:srgbClr val="111111"/>
              </a:solidFill>
              <a:latin typeface="Arial"/>
            </a:endParaRPr>
          </a:p>
          <a:p>
            <a:pPr lvl="1" marL="228600" indent="-227160" algn="r" rtl="1">
              <a:lnSpc>
                <a:spcPct val="99000"/>
              </a:lnSpc>
              <a:spcBef>
                <a:spcPts val="1363"/>
              </a:spcBef>
              <a:buClr>
                <a:srgbClr val="3399ff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2100" spc="-1" strike="noStrike">
                <a:solidFill>
                  <a:srgbClr val="111111"/>
                </a:solidFill>
                <a:latin typeface="Arial"/>
                <a:cs typeface="Arial"/>
              </a:rPr>
              <a:t>وجود اصول قابلة للضياع أو الأختلاس</a:t>
            </a:r>
            <a:endParaRPr b="0" lang="en-US" sz="2100" spc="-1" strike="noStrike">
              <a:solidFill>
                <a:srgbClr val="111111"/>
              </a:solidFill>
              <a:latin typeface="Arial"/>
            </a:endParaRPr>
          </a:p>
          <a:p>
            <a:pPr lvl="1" marL="228600" indent="-227160" algn="r" rtl="1">
              <a:lnSpc>
                <a:spcPct val="99000"/>
              </a:lnSpc>
              <a:spcBef>
                <a:spcPts val="1363"/>
              </a:spcBef>
              <a:buClr>
                <a:srgbClr val="3399ff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2100" spc="-1" strike="noStrike">
                <a:solidFill>
                  <a:srgbClr val="111111"/>
                </a:solidFill>
                <a:latin typeface="Arial"/>
                <a:cs typeface="Arial"/>
              </a:rPr>
              <a:t>الترتيبات التى تضمن جودة الخدمة المؤداة</a:t>
            </a:r>
            <a:endParaRPr b="0" lang="en-US" sz="2100" spc="-1" strike="noStrike">
              <a:solidFill>
                <a:srgbClr val="111111"/>
              </a:solidFill>
              <a:latin typeface="Arial"/>
            </a:endParaRPr>
          </a:p>
          <a:p>
            <a:pPr lvl="1" marL="228600" indent="-227160" algn="r" rtl="1">
              <a:lnSpc>
                <a:spcPct val="99000"/>
              </a:lnSpc>
              <a:spcBef>
                <a:spcPts val="1363"/>
              </a:spcBef>
              <a:buClr>
                <a:srgbClr val="3399ff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2100" spc="-1" strike="noStrike">
                <a:solidFill>
                  <a:srgbClr val="111111"/>
                </a:solidFill>
                <a:latin typeface="Arial"/>
                <a:cs typeface="Arial"/>
              </a:rPr>
              <a:t>نزاهة المسؤلين عن ادارة المؤسسة الخدمية</a:t>
            </a:r>
            <a:endParaRPr b="0" lang="en-US" sz="2100" spc="-1" strike="noStrike">
              <a:solidFill>
                <a:srgbClr val="111111"/>
              </a:solidFill>
              <a:latin typeface="Arial"/>
            </a:endParaRPr>
          </a:p>
          <a:p>
            <a:pPr lvl="1" marL="228600" indent="-227160" algn="r" rtl="1">
              <a:lnSpc>
                <a:spcPct val="99000"/>
              </a:lnSpc>
              <a:spcBef>
                <a:spcPts val="1363"/>
              </a:spcBef>
              <a:buClr>
                <a:srgbClr val="3399ff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2100" spc="-1" strike="noStrike">
                <a:solidFill>
                  <a:srgbClr val="111111"/>
                </a:solidFill>
                <a:latin typeface="Arial"/>
                <a:cs typeface="Arial"/>
              </a:rPr>
              <a:t>الموقف المالى للمؤسسة الخدمية</a:t>
            </a:r>
            <a:endParaRPr b="0" lang="en-US" sz="2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54080" y="191124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lvl="1" marL="594360" indent="-228600" algn="r" rtl="1">
              <a:lnSpc>
                <a:spcPct val="109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111111"/>
                </a:solidFill>
                <a:latin typeface="Arial"/>
                <a:cs typeface="Arial"/>
              </a:rPr>
              <a:t>على المراجع تحديد اثر الأستعانة بالمؤسسة الخدمية على تقييم المخاطر المتأصلة</a:t>
            </a:r>
            <a:endParaRPr b="0" lang="en-US" sz="2500" spc="-1" strike="noStrike">
              <a:solidFill>
                <a:srgbClr val="111111"/>
              </a:solidFill>
              <a:latin typeface="Times New Roman"/>
            </a:endParaRPr>
          </a:p>
          <a:p>
            <a:pPr lvl="2" marL="914400" indent="-182880" algn="r" rtl="1">
              <a:lnSpc>
                <a:spcPct val="109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 algn="r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تقييم مخاطر الرقابة (من العميل على اعمال المؤسسة الخدمية)</a:t>
            </a: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5280" y="3056040"/>
            <a:ext cx="8244000" cy="287496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 fontScale="85000"/>
          </a:bodyPr>
          <a:p>
            <a:pPr marL="410040" indent="152280" algn="r" rtl="1">
              <a:lnSpc>
                <a:spcPct val="99000"/>
              </a:lnSpc>
              <a:spcBef>
                <a:spcPts val="1375"/>
              </a:spcBef>
              <a:buClr>
                <a:srgbClr val="3399ff"/>
              </a:buClr>
              <a:buFont typeface="Wingdings" charset="2"/>
              <a:buChar char="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  <a:cs typeface="Simplified Arabic"/>
              </a:rPr>
              <a:t>مدى وطبيعة اجراءات الرقابة التى يقوم بها موظفوا العميل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410040" indent="152280" algn="r" rtl="1">
              <a:lnSpc>
                <a:spcPct val="100000"/>
              </a:lnSpc>
              <a:buClr>
                <a:srgbClr val="3399ff"/>
              </a:buClr>
              <a:buFont typeface="Wingdings" charset="2"/>
              <a:buChar char="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  <a:cs typeface="Simplified Arabic"/>
              </a:rPr>
              <a:t>مدي ملائمة نظام الرقابة الداخلية فى المؤسسة الخدمية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410040" indent="152280" algn="r" rtl="1">
              <a:lnSpc>
                <a:spcPct val="100000"/>
              </a:lnSpc>
              <a:buClr>
                <a:srgbClr val="3399ff"/>
              </a:buClr>
              <a:buFont typeface="Wingdings" charset="2"/>
              <a:buChar char="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  <a:cs typeface="Simplified Arabic"/>
              </a:rPr>
              <a:t>حجم الأخطاء التى تم اكتشافها فى عمل المؤسسة الخدمية بمعرفة العميل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410040" indent="152280" algn="r" rtl="1">
              <a:lnSpc>
                <a:spcPct val="100000"/>
              </a:lnSpc>
              <a:buClr>
                <a:srgbClr val="3399ff"/>
              </a:buClr>
              <a:buFont typeface="Wingdings" charset="2"/>
              <a:buChar char="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  <a:cs typeface="Simplified Arabic"/>
              </a:rPr>
              <a:t>مدى التزام المؤسسة الخدمية بالقانون والتشريعات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410040" indent="152280" algn="r" rtl="1">
              <a:lnSpc>
                <a:spcPct val="100000"/>
              </a:lnSpc>
              <a:buClr>
                <a:srgbClr val="3399ff"/>
              </a:buClr>
              <a:buFont typeface="Wingdings" charset="2"/>
              <a:buChar char="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  <a:cs typeface="Simplified Arabic"/>
              </a:rPr>
              <a:t>المعلومات المقدمة من المؤسسة الخدمية للعميل والتى تظعر التزامها بنظم الرقابة</a:t>
            </a:r>
            <a:r>
              <a:rPr b="0" lang="ar-SA" sz="2500" spc="-1" strike="noStrike">
                <a:solidFill>
                  <a:srgbClr val="000000"/>
                </a:solidFill>
                <a:latin typeface="Tahoma"/>
                <a:ea typeface="Simplified Arabic"/>
              </a:rPr>
              <a:t> 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marL="410040" indent="152280" algn="r" rtl="1">
              <a:lnSpc>
                <a:spcPct val="100000"/>
              </a:lnSpc>
              <a:buClr>
                <a:srgbClr val="3399ff"/>
              </a:buClr>
              <a:buFont typeface="Wingdings" charset="2"/>
              <a:buChar char="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  <a:cs typeface="Simplified Arabic"/>
              </a:rPr>
              <a:t>تقرير المراجع الخارجى للمؤسسة الخدمية حول مدى كفاية نظم الرقابة الداخلية</a:t>
            </a:r>
            <a:r>
              <a:rPr b="0" lang="ar-SA" sz="2500" spc="-1" strike="noStrike">
                <a:solidFill>
                  <a:srgbClr val="000000"/>
                </a:solidFill>
                <a:latin typeface="Tahoma"/>
                <a:ea typeface="Simplified Arabic"/>
              </a:rPr>
              <a:t> 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marL="410040" indent="152280" algn="r" rtl="1">
              <a:lnSpc>
                <a:spcPct val="100000"/>
              </a:lnSpc>
              <a:buClr>
                <a:srgbClr val="3399ff"/>
              </a:buClr>
              <a:buFont typeface="Wingdings" charset="2"/>
              <a:buChar char="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  <a:cs typeface="Simplified Arabic"/>
              </a:rPr>
              <a:t>المهارات والمعلومات لدى العاملين بالمؤسسة الخدمية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410040" indent="152280" algn="r" rtl="1">
              <a:lnSpc>
                <a:spcPct val="100000"/>
              </a:lnSpc>
              <a:buClr>
                <a:srgbClr val="3399ff"/>
              </a:buClr>
              <a:buFont typeface="Wingdings" charset="2"/>
              <a:buChar char="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  <a:cs typeface="Simplified Arabic"/>
              </a:rPr>
              <a:t>نظم ضمان الجودة لدى المؤسسة الخدمية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410040" indent="0" algn="r" rtl="1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Tahoma"/>
                <a:ea typeface="Simplified Arabic"/>
              </a:rPr>
              <a:t>	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marL="410040" indent="0" algn="r" rtl="1">
              <a:lnSpc>
                <a:spcPct val="100000"/>
              </a:lnSpc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100" spc="-1" strike="noStrike">
              <a:solidFill>
                <a:srgbClr val="111111"/>
              </a:solidFill>
              <a:latin typeface="Arial"/>
            </a:endParaRPr>
          </a:p>
          <a:p>
            <a:pPr lvl="1" marL="1539360" indent="0" algn="r" rtl="1">
              <a:lnSpc>
                <a:spcPct val="99000"/>
              </a:lnSpc>
              <a:spcBef>
                <a:spcPts val="1363"/>
              </a:spcBef>
              <a:buNone/>
              <a:tabLst>
                <a:tab algn="l" pos="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14480" y="1758960"/>
            <a:ext cx="77724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109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100" spc="-1" strike="noStrike">
                <a:solidFill>
                  <a:srgbClr val="000000"/>
                </a:solidFill>
                <a:latin typeface="Arial"/>
                <a:cs typeface="Simplified Arabic"/>
              </a:rPr>
              <a:t>اذا قرر المراجع الأعتماد على نظام الرقابة الداخلية للعميل لتقليل الأختبارات التفصيلية فلابد من تقييم مخاطر الرقابة المرتبطة بالخدمات التى تقوم بها المنشأة عن طريق تقييم</a:t>
            </a:r>
            <a:endParaRPr b="0" lang="en-US" sz="2100" spc="-1" strike="noStrike">
              <a:solidFill>
                <a:srgbClr val="111111"/>
              </a:solidFill>
              <a:latin typeface="Times New Roman"/>
            </a:endParaRPr>
          </a:p>
          <a:p>
            <a:pPr lvl="1" marL="660960" indent="-254160" algn="r" rtl="1">
              <a:lnSpc>
                <a:spcPct val="109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111111"/>
              </a:solidFill>
              <a:latin typeface="Times New Roman"/>
            </a:endParaRPr>
          </a:p>
          <a:p>
            <a:pPr lvl="2" marL="1017000" indent="-203400" algn="r" rtl="1">
              <a:lnSpc>
                <a:spcPct val="109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 algn="r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حصول على بيانات اومعلومات مطلوبة من المؤسسة الخدمية</a:t>
            </a: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3055680"/>
            <a:ext cx="8285040" cy="33462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 fontScale="82000"/>
          </a:bodyPr>
          <a:p>
            <a:pPr marL="542520" indent="-463320" algn="r" rtl="1">
              <a:lnSpc>
                <a:spcPct val="100000"/>
              </a:lnSpc>
              <a:spcBef>
                <a:spcPts val="1125"/>
              </a:spcBef>
              <a:buClr>
                <a:srgbClr val="3399ff"/>
              </a:buClr>
              <a:buFont typeface="Wingdings" charset="2"/>
              <a:buChar char="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  <a:cs typeface="Times New Roman"/>
              </a:rPr>
              <a:t>فحص مستندات وسجلات العميل التى تشتمل على بيانات عن ما يتم تقديمه للمؤسسة الخدمية من معاملات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marL="542520" indent="-463320" algn="r" rtl="1">
              <a:lnSpc>
                <a:spcPct val="100000"/>
              </a:lnSpc>
              <a:spcBef>
                <a:spcPts val="1125"/>
              </a:spcBef>
              <a:buClr>
                <a:srgbClr val="3399ff"/>
              </a:buClr>
              <a:buFont typeface="Wingdings" charset="2"/>
              <a:buChar char="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  <a:cs typeface="Times New Roman"/>
              </a:rPr>
              <a:t>تقييم اثر الرقابة لدى العميل (من اجل مراقبة اداء المؤسسة الخدمية) وكذا المؤسسة الخدمية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marL="542520" indent="-463320" algn="r" rtl="1">
              <a:lnSpc>
                <a:spcPct val="100000"/>
              </a:lnSpc>
              <a:spcBef>
                <a:spcPts val="1125"/>
              </a:spcBef>
              <a:buClr>
                <a:srgbClr val="3399ff"/>
              </a:buClr>
              <a:buFont typeface="Wingdings" charset="2"/>
              <a:buChar char="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  <a:cs typeface="Times New Roman"/>
              </a:rPr>
              <a:t>الحصول على اقرارات مكتوبة من المؤسسة الخدمية فيما يتعلق بتأكيد الأرصدة والمعاملات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marL="542520" indent="-463320" algn="r" rtl="1">
              <a:lnSpc>
                <a:spcPct val="100000"/>
              </a:lnSpc>
              <a:spcBef>
                <a:spcPts val="1125"/>
              </a:spcBef>
              <a:buClr>
                <a:srgbClr val="3399ff"/>
              </a:buClr>
              <a:buFont typeface="Wingdings" charset="2"/>
              <a:buChar char="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  <a:cs typeface="Times New Roman"/>
              </a:rPr>
              <a:t>تنفيذ اجراءات المراجعة التحليلية على سجلات العميل وعلى المعلومات المسلمة من المؤسسة الخدمية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marL="542520" indent="-463320" algn="r" rtl="1">
              <a:lnSpc>
                <a:spcPct val="100000"/>
              </a:lnSpc>
              <a:spcBef>
                <a:spcPts val="1125"/>
              </a:spcBef>
              <a:buClr>
                <a:srgbClr val="3399ff"/>
              </a:buClr>
              <a:buFont typeface="Wingdings" charset="2"/>
              <a:buChar char="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  <a:cs typeface="Times New Roman"/>
              </a:rPr>
              <a:t>طلب عمل اجراءات خاصة من مراجع المؤسسة الخدمية أو من المراجع الداخلى للعميل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marL="542520" indent="-463320" algn="r" rtl="1">
              <a:lnSpc>
                <a:spcPct val="100000"/>
              </a:lnSpc>
              <a:spcBef>
                <a:spcPts val="1125"/>
              </a:spcBef>
              <a:buClr>
                <a:srgbClr val="3399ff"/>
              </a:buClr>
              <a:buFont typeface="Wingdings" charset="2"/>
              <a:buChar char="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  <a:cs typeface="Times New Roman"/>
              </a:rPr>
              <a:t>فحص التقارير والمعلومات التى تم اعدادها بواسطة المؤسسة الخدمية و مراجعتها مع الأخذ فى الأعتبار نظم الرقابة الداخلية لديه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marL="542520" indent="0" algn="r" rtl="1">
              <a:lnSpc>
                <a:spcPct val="100000"/>
              </a:lnSpc>
              <a:spcBef>
                <a:spcPts val="112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52360" y="2062080"/>
            <a:ext cx="77724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 algn="r" rtl="1">
              <a:lnSpc>
                <a:spcPct val="109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100" spc="-1" strike="noStrike">
                <a:solidFill>
                  <a:srgbClr val="000000"/>
                </a:solidFill>
                <a:latin typeface="Arial"/>
                <a:cs typeface="Simplified Arabic"/>
              </a:rPr>
              <a:t>اذا قرر المراجع الأعتماد على بيانات او معلومات معدة من قبل الموسسة الخدمية فيجب</a:t>
            </a:r>
            <a:endParaRPr b="0" lang="en-US" sz="21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 algn="r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دم الحصول على بيانات اومعلومات مطلوبة من المؤسسة الخدمية</a:t>
            </a: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3319200"/>
            <a:ext cx="8285040" cy="33462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marL="662040" indent="-565200" algn="r" rtl="1">
              <a:lnSpc>
                <a:spcPct val="100000"/>
              </a:lnSpc>
              <a:buClr>
                <a:srgbClr val="3399ff"/>
              </a:buClr>
              <a:buFont typeface="Wingdings" charset="2"/>
              <a:buChar char="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imes New Roman"/>
              </a:rPr>
              <a:t>تعديل فقرة اساس الرأى للتضمن وصف للعوامل التى ادت الى نقص ادلة المراجعة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662040" indent="0" algn="r" rtl="1">
              <a:lnSpc>
                <a:spcPct val="100000"/>
              </a:lnSpc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662040" indent="-565200" algn="r" rtl="1">
              <a:lnSpc>
                <a:spcPct val="100000"/>
              </a:lnSpc>
              <a:spcBef>
                <a:spcPts val="1250"/>
              </a:spcBef>
              <a:buClr>
                <a:srgbClr val="3399ff"/>
              </a:buClr>
              <a:buFont typeface="Wingdings" charset="2"/>
              <a:buChar char="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imes New Roman"/>
              </a:rPr>
              <a:t>التحفظ فى التقرير أو اصدار رأى عكسى على القوائم المالية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662040" indent="0" algn="r" rtl="1">
              <a:lnSpc>
                <a:spcPct val="100000"/>
              </a:lnSpc>
              <a:spcBef>
                <a:spcPts val="1500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marL="662040" indent="0" algn="r" rtl="1">
              <a:lnSpc>
                <a:spcPct val="100000"/>
              </a:lnSpc>
              <a:spcBef>
                <a:spcPts val="1500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52360" y="2062080"/>
            <a:ext cx="77724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 rtl="1">
              <a:lnSpc>
                <a:spcPct val="109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Arial"/>
                <a:cs typeface="Simplified Arabic"/>
              </a:rPr>
              <a:t>فى حالة ما أذا قرر المراجع ان هناك معلومات مطلوبة من المؤسسة الخدمية كجزء من ادلة المراجعة المطلوبة ولم يحصل عليها فيجب ان يدرس تعديل تقريره ليتضمن</a:t>
            </a:r>
            <a:endParaRPr b="0" lang="en-US" sz="21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109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69880" y="603360"/>
            <a:ext cx="7777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ثامن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لأعتماد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على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ع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مل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أخرين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فى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عملي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مراجع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69880" y="603360"/>
            <a:ext cx="7777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ثامن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لأعتماد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على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ع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مل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أخرين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فى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عملي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مراجع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07960" y="1893960"/>
            <a:ext cx="8153280" cy="3636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marL="343080" indent="0" algn="r" rtl="1">
              <a:lnSpc>
                <a:spcPct val="10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ناول هذا الفصل الموضوعات التالية</a:t>
            </a:r>
            <a:endParaRPr b="0" lang="en-US" sz="17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 algn="r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111111"/>
                </a:solidFill>
                <a:latin typeface="Traditional Arabic"/>
                <a:cs typeface="Simplified Arabic"/>
              </a:rPr>
              <a:t>الأعتماد على عمل الأخرين فى عملية المراجعة</a:t>
            </a:r>
            <a:endParaRPr b="0" lang="en-US" sz="37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5880" y="2408400"/>
            <a:ext cx="8153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 fontScale="72000"/>
          </a:bodyPr>
          <a:p>
            <a:pPr marL="246960" indent="-246960" algn="r" rtl="1">
              <a:lnSpc>
                <a:spcPct val="109000"/>
              </a:lnSpc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Arabic Transparent"/>
              </a:rPr>
              <a:t>لماذا الأعتماد على عمل الأخرين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85880" y="2933640"/>
            <a:ext cx="8153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 fontScale="72000"/>
          </a:bodyPr>
          <a:p>
            <a:pPr marL="246960" indent="-246960" algn="r" rtl="1">
              <a:lnSpc>
                <a:spcPct val="109000"/>
              </a:lnSpc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Arabic Transparent"/>
              </a:rPr>
              <a:t>استخدام عمل الخبراء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85880" y="3489480"/>
            <a:ext cx="8153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 fontScale="83000"/>
          </a:bodyPr>
          <a:p>
            <a:pPr marL="284400" indent="-284400" algn="r" rtl="1">
              <a:lnSpc>
                <a:spcPct val="109000"/>
              </a:lnSpc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تقرير المراجعة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3440" y="3944880"/>
            <a:ext cx="8153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 fontScale="72000"/>
          </a:bodyPr>
          <a:p>
            <a:pPr marL="246960" indent="-246960" algn="r" rtl="1">
              <a:lnSpc>
                <a:spcPct val="109000"/>
              </a:lnSpc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Arabic Transparent"/>
              </a:rPr>
              <a:t>مدى اعتماد المراجع على المراجعة 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9000" y="4541760"/>
            <a:ext cx="868032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/>
          </a:bodyPr>
          <a:p>
            <a:pPr marL="343080" indent="-343080" algn="r" rtl="1">
              <a:lnSpc>
                <a:spcPct val="109000"/>
              </a:lnSpc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Arabic Transparent"/>
              </a:rPr>
              <a:t>مدى اعتماد المراجع على عمل المؤسسات الخدمية التى تستخدمها المنشأة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07960" y="1893960"/>
            <a:ext cx="81532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 fontScale="73000"/>
          </a:bodyPr>
          <a:p>
            <a:pPr marL="352080" indent="-352080" algn="r" rtl="1">
              <a:lnSpc>
                <a:spcPct val="99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111111"/>
                </a:solidFill>
                <a:latin typeface="Arial"/>
                <a:cs typeface="Simplified Arabic"/>
              </a:rPr>
              <a:t>معيار المراجعة الدولى (</a:t>
            </a:r>
            <a:r>
              <a:rPr b="0" lang="ar-SA" sz="2000" spc="-1" strike="noStrike">
                <a:solidFill>
                  <a:srgbClr val="111111"/>
                </a:solidFill>
                <a:latin typeface="Arial"/>
                <a:ea typeface="Simplified Arabic"/>
              </a:rPr>
              <a:t>620</a:t>
            </a:r>
            <a:r>
              <a:rPr b="0" lang="ar-SA" sz="2000" spc="-1" strike="noStrike">
                <a:solidFill>
                  <a:srgbClr val="111111"/>
                </a:solidFill>
                <a:latin typeface="Arial"/>
                <a:ea typeface="Simplified Arabic"/>
              </a:rPr>
              <a:t>) الاعتماد على أعمال الخبراء المتخصصين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52080" indent="0" algn="r" rtl="1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marL="352080" indent="0" algn="r" rtl="1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111111"/>
                </a:solidFill>
                <a:latin typeface="Arial"/>
                <a:cs typeface="Simplified Arabic"/>
              </a:rPr>
              <a:t>المؤهلات العلمية للمراجع وخبرته تجعله قادراً على الألمام بشئون العمل بصفة عامة، ولكن لا يتعين ان يكون لديه الخبرة المتخصصة فى كل المجالات مثل التأمين الاكتوارى أو الاعمال الهندسية </a:t>
            </a:r>
            <a:r>
              <a:rPr b="1" lang="ar-SA" sz="1800" spc="-1" strike="noStrike">
                <a:solidFill>
                  <a:srgbClr val="111111"/>
                </a:solidFill>
                <a:latin typeface="Arial"/>
                <a:ea typeface="Simplified Arabic"/>
              </a:rPr>
              <a:t>0</a:t>
            </a:r>
            <a:r>
              <a:rPr b="1" lang="ar-SA" sz="1800" spc="-1" strike="noStrike">
                <a:solidFill>
                  <a:srgbClr val="111111"/>
                </a:solidFill>
                <a:latin typeface="Arial"/>
                <a:ea typeface="Simplified Arabic"/>
              </a:rPr>
              <a:t> لذا فأنه قد يحتاج الى تقارير مؤيده أو بيانات من أحد الخبراء لتعضيد وجهة نظره او مراجعة العمليات المتخصصة)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 algn="r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111111"/>
                </a:solidFill>
                <a:latin typeface="Times New Roman"/>
                <a:cs typeface="Simplified Arabic"/>
              </a:rPr>
              <a:t>لماذا الاعتماد على عمل الأخرين</a:t>
            </a: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3200" y="3699000"/>
            <a:ext cx="8153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 fontScale="72000"/>
          </a:bodyPr>
          <a:p>
            <a:pPr marL="246960" indent="-246960" algn="r" rtl="1">
              <a:lnSpc>
                <a:spcPct val="10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ند وضع خطة المراجعة الفعلية فعلى المراجع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: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Times New Roman (Arabic)"/>
              </a:rPr>
              <a:t> 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71480" y="4294080"/>
            <a:ext cx="8153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 fontScale="97000"/>
          </a:bodyPr>
          <a:p>
            <a:pPr marL="2314440" indent="-332640" algn="r" rtl="1">
              <a:lnSpc>
                <a:spcPct val="109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111111"/>
                </a:solidFill>
                <a:latin typeface="Arial"/>
                <a:ea typeface="Simplified Arabic"/>
              </a:rPr>
              <a:t>1</a:t>
            </a:r>
            <a:r>
              <a:rPr b="0" lang="ar-SA" sz="1900" spc="-1" strike="noStrike">
                <a:solidFill>
                  <a:srgbClr val="111111"/>
                </a:solidFill>
                <a:latin typeface="Arial"/>
                <a:ea typeface="Simplified Arabic"/>
              </a:rPr>
              <a:t>- تحديد المجالات التى تتطلب استخدام خبير خارجى أو أكثر</a:t>
            </a:r>
            <a:endParaRPr b="0" lang="en-US" sz="19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6600" y="4832280"/>
            <a:ext cx="81532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 fontScale="92000"/>
          </a:bodyPr>
          <a:p>
            <a:pPr marL="2018160" indent="-315000" algn="r" rtl="1">
              <a:lnSpc>
                <a:spcPct val="109000"/>
              </a:lnSpc>
              <a:tabLst>
                <a:tab algn="l" pos="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ar-SA" sz="1900" spc="-1" strike="noStrike">
                <a:solidFill>
                  <a:srgbClr val="111111"/>
                </a:solidFill>
                <a:latin typeface="Arial"/>
                <a:ea typeface="Simplified Arabic"/>
              </a:rPr>
              <a:t>2</a:t>
            </a:r>
            <a:r>
              <a:rPr b="0" lang="ar-SA" sz="1900" spc="-1" strike="noStrike">
                <a:solidFill>
                  <a:srgbClr val="111111"/>
                </a:solidFill>
                <a:latin typeface="Arial"/>
                <a:ea typeface="Simplified Arabic"/>
              </a:rPr>
              <a:t>- اتخاذ الخطوات الضرورية للتأكد من توافر الرقابة الكافية على اعمال الأخرين وامكانية الاعتماد على عملهم</a:t>
            </a:r>
            <a:endParaRPr b="0" lang="en-US" sz="19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4640" y="5857920"/>
            <a:ext cx="81532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 fontScale="89000"/>
          </a:bodyPr>
          <a:p>
            <a:pPr marL="258480" indent="-218880" algn="r" rtl="1">
              <a:lnSpc>
                <a:spcPct val="109000"/>
              </a:lnSpc>
              <a:buClr>
                <a:srgbClr val="3399ff"/>
              </a:buClr>
              <a:buFont typeface="Times New Roman"/>
              <a:buChar char="•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ar-SA" sz="1900" spc="-1" strike="noStrike">
                <a:solidFill>
                  <a:srgbClr val="111111"/>
                </a:solidFill>
                <a:latin typeface="Arial"/>
                <a:cs typeface="Simplified Arabic"/>
              </a:rPr>
              <a:t>ليس من المتوقع ان يكون لدى المراجع الخارجى </a:t>
            </a:r>
            <a:r>
              <a:rPr b="1" lang="ar-SA" sz="2000" spc="-1" strike="noStrike">
                <a:solidFill>
                  <a:srgbClr val="111111"/>
                </a:solidFill>
                <a:latin typeface="Arial"/>
                <a:cs typeface="Simplified Arabic"/>
              </a:rPr>
              <a:t>الخبرة</a:t>
            </a:r>
            <a:r>
              <a:rPr b="1" lang="ar-SA" sz="1900" spc="-1" strike="noStrike">
                <a:solidFill>
                  <a:srgbClr val="111111"/>
                </a:solidFill>
                <a:latin typeface="Arial"/>
                <a:ea typeface="Simplified Arabic"/>
              </a:rPr>
              <a:t> الكافية لمراجعة الأعمال المتخصصة</a:t>
            </a:r>
            <a:endParaRPr b="0" lang="en-US" sz="19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07960" y="1893960"/>
            <a:ext cx="8153280" cy="8618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marL="482760" indent="-482760" algn="r" rtl="1">
              <a:lnSpc>
                <a:spcPct val="109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11111"/>
                </a:solidFill>
                <a:latin typeface="Arial"/>
                <a:cs typeface="Simplified Arabic"/>
              </a:rPr>
              <a:t>يجب الحصول على دليل بان العمل الذى قام به الخبراء كاف ومناسب لآغراض المراجعة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marL="482760" indent="0" algn="r" rtl="1">
              <a:lnSpc>
                <a:spcPct val="10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 algn="r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111111"/>
                </a:solidFill>
                <a:latin typeface="Times New Roman"/>
                <a:cs typeface="Simplified Arabic"/>
              </a:rPr>
              <a:t>استخدام عمل الخبراء</a:t>
            </a:r>
            <a:r>
              <a:rPr b="0" lang="en-GB" sz="3800" spc="-1" strike="noStrike">
                <a:solidFill>
                  <a:srgbClr val="111111"/>
                </a:solidFill>
                <a:latin typeface="Times New Roman"/>
                <a:ea typeface="Simplified Arabic"/>
              </a:rPr>
              <a:t> </a:t>
            </a: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8800" y="2741760"/>
            <a:ext cx="8153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 fontScale="97000"/>
          </a:bodyPr>
          <a:p>
            <a:pPr marL="332640" indent="-332640" algn="r" rtl="1">
              <a:lnSpc>
                <a:spcPct val="10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تزامات المراجع الخارج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8640" y="3392640"/>
            <a:ext cx="8153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/>
          </a:bodyPr>
          <a:p>
            <a:pPr marL="2386080" indent="-343080" algn="r" rtl="1">
              <a:lnSpc>
                <a:spcPct val="109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111111"/>
                </a:solidFill>
                <a:latin typeface="Arial"/>
                <a:ea typeface="Simplified Arabic"/>
              </a:rPr>
              <a:t>1</a:t>
            </a:r>
            <a:r>
              <a:rPr b="0" lang="ar-SA" sz="1900" spc="-1" strike="noStrike">
                <a:solidFill>
                  <a:srgbClr val="111111"/>
                </a:solidFill>
                <a:latin typeface="Arial"/>
                <a:ea typeface="Simplified Arabic"/>
              </a:rPr>
              <a:t>- تحديد الحاجة الى استخدام عمل خبير</a:t>
            </a:r>
            <a:endParaRPr b="0" lang="en-US" sz="19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400" y="3835440"/>
            <a:ext cx="8153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/>
          </a:bodyPr>
          <a:p>
            <a:pPr marL="2193840" indent="-342720" algn="r" rtl="1">
              <a:lnSpc>
                <a:spcPct val="109000"/>
              </a:lnSpc>
              <a:tabLst>
                <a:tab algn="l" pos="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ar-SA" sz="1900" spc="-1" strike="noStrike">
                <a:solidFill>
                  <a:srgbClr val="111111"/>
                </a:solidFill>
                <a:latin typeface="Arial"/>
                <a:ea typeface="Simplified Arabic"/>
              </a:rPr>
              <a:t>2</a:t>
            </a:r>
            <a:r>
              <a:rPr b="0" lang="ar-SA" sz="1900" spc="-1" strike="noStrike">
                <a:solidFill>
                  <a:srgbClr val="111111"/>
                </a:solidFill>
                <a:latin typeface="Arial"/>
                <a:ea typeface="Simplified Arabic"/>
              </a:rPr>
              <a:t>- التأكد من كفأة وموضوعية الخبير</a:t>
            </a:r>
            <a:endParaRPr b="0" lang="en-US" sz="19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4640" y="4249800"/>
            <a:ext cx="815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/>
          </a:bodyPr>
          <a:p>
            <a:pPr marL="2195640" indent="-246240" algn="r" rtl="1">
              <a:lnSpc>
                <a:spcPct val="109000"/>
              </a:lnSpc>
              <a:tabLst>
                <a:tab algn="l" pos="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ar-SA" sz="1900" spc="-1" strike="noStrike">
                <a:solidFill>
                  <a:srgbClr val="111111"/>
                </a:solidFill>
                <a:latin typeface="Arial"/>
                <a:ea typeface="Simplified Arabic"/>
              </a:rPr>
              <a:t>3</a:t>
            </a:r>
            <a:r>
              <a:rPr b="0" lang="ar-SA" sz="1900" spc="-1" strike="noStrike">
                <a:solidFill>
                  <a:srgbClr val="111111"/>
                </a:solidFill>
                <a:latin typeface="Arial"/>
                <a:ea typeface="Simplified Arabic"/>
              </a:rPr>
              <a:t>- تحديد مجال عمل الخبير</a:t>
            </a:r>
            <a:endParaRPr b="0" lang="en-US" sz="19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4640" y="4637160"/>
            <a:ext cx="815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/>
          </a:bodyPr>
          <a:p>
            <a:pPr marL="2195640" indent="-246240" algn="r" rtl="1">
              <a:lnSpc>
                <a:spcPct val="109000"/>
              </a:lnSpc>
              <a:tabLst>
                <a:tab algn="l" pos="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ar-SA" sz="1900" spc="-1" strike="noStrike">
                <a:solidFill>
                  <a:srgbClr val="111111"/>
                </a:solidFill>
                <a:latin typeface="Arial"/>
                <a:ea typeface="Simplified Arabic"/>
              </a:rPr>
              <a:t>4</a:t>
            </a:r>
            <a:r>
              <a:rPr b="0" lang="ar-SA" sz="1900" spc="-1" strike="noStrike">
                <a:solidFill>
                  <a:srgbClr val="111111"/>
                </a:solidFill>
                <a:latin typeface="Arial"/>
                <a:ea typeface="Simplified Arabic"/>
              </a:rPr>
              <a:t>- تقييم عمل الخبير</a:t>
            </a:r>
            <a:endParaRPr b="0" lang="en-US" sz="19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6040" y="4997520"/>
            <a:ext cx="815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/>
          </a:bodyPr>
          <a:p>
            <a:pPr marL="2195640" indent="-246240" algn="r" rtl="1">
              <a:lnSpc>
                <a:spcPct val="109000"/>
              </a:lnSpc>
              <a:tabLst>
                <a:tab algn="l" pos="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ar-SA" sz="1900" spc="-1" strike="noStrike">
                <a:solidFill>
                  <a:srgbClr val="111111"/>
                </a:solidFill>
                <a:latin typeface="Arial"/>
                <a:ea typeface="Simplified Arabic"/>
              </a:rPr>
              <a:t>5</a:t>
            </a:r>
            <a:r>
              <a:rPr b="0" lang="ar-SA" sz="1900" spc="-1" strike="noStrike">
                <a:solidFill>
                  <a:srgbClr val="111111"/>
                </a:solidFill>
                <a:latin typeface="Arial"/>
                <a:ea typeface="Simplified Arabic"/>
              </a:rPr>
              <a:t>- الأثر على تقرير المراجعة</a:t>
            </a:r>
            <a:endParaRPr b="0" lang="en-US" sz="19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07600" y="1893960"/>
            <a:ext cx="8293320" cy="487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marL="290520" indent="-290520" algn="r" rtl="1">
              <a:lnSpc>
                <a:spcPct val="10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11111"/>
                </a:solidFill>
                <a:latin typeface="Times New Roman"/>
                <a:cs typeface="Simplified Arabic"/>
              </a:rPr>
              <a:t>لا يجب الأشارة فى تقرير المراجع الى استخدام الخبير 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 algn="r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111111"/>
                </a:solidFill>
                <a:latin typeface="Times New Roman"/>
                <a:cs typeface="Simplified Arabic"/>
              </a:rPr>
              <a:t>الأثر على تقرير المراجع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12880" y="2409840"/>
            <a:ext cx="8153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 fontScale="97000"/>
          </a:bodyPr>
          <a:p>
            <a:pPr lvl="1" marL="2776320" indent="-277200" algn="r" rtl="1">
              <a:lnSpc>
                <a:spcPct val="109000"/>
              </a:lnSpc>
              <a:buClr>
                <a:srgbClr val="3399ff"/>
              </a:buClr>
              <a:buFont typeface="Times New Roman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111111"/>
                </a:solidFill>
                <a:latin typeface="Times New Roman"/>
                <a:cs typeface="Simplified Arabic"/>
              </a:rPr>
              <a:t>قد يشير الى تجزئة فى المسئولية</a:t>
            </a:r>
            <a:r>
              <a:rPr b="0" lang="ar-SA" sz="2400" spc="-1" strike="noStrike">
                <a:solidFill>
                  <a:srgbClr val="111111"/>
                </a:solidFill>
                <a:latin typeface="Times New Roman"/>
                <a:ea typeface="Simplified Arabic"/>
              </a:rPr>
              <a:t> 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7800" y="2946240"/>
            <a:ext cx="8319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/>
          </a:bodyPr>
          <a:p>
            <a:pPr lvl="1" marL="2670120" indent="-285840" algn="r" rtl="1">
              <a:lnSpc>
                <a:spcPct val="109000"/>
              </a:lnSpc>
              <a:buClr>
                <a:srgbClr val="3399ff"/>
              </a:buClr>
              <a:buFont typeface="Times New Roman"/>
              <a:buChar char="•"/>
              <a:tabLst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ar-SA" sz="1800" spc="-1" strike="noStrike">
                <a:solidFill>
                  <a:srgbClr val="111111"/>
                </a:solidFill>
                <a:latin typeface="Times New Roman"/>
                <a:cs typeface="Simplified Arabic"/>
              </a:rPr>
              <a:t>قد يساء فهمة على أنه تحفظ من المراجع</a:t>
            </a:r>
            <a:r>
              <a:rPr b="0" lang="ar-SA" sz="2400" spc="-1" strike="noStrike">
                <a:solidFill>
                  <a:srgbClr val="111111"/>
                </a:solidFill>
                <a:latin typeface="Times New Roman"/>
                <a:ea typeface="Simplified Arabic"/>
              </a:rPr>
              <a:t> 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7520" y="3516480"/>
            <a:ext cx="831996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 fontScale="94000"/>
          </a:bodyPr>
          <a:p>
            <a:pPr marL="532440" indent="-350280" algn="r" rtl="1">
              <a:lnSpc>
                <a:spcPct val="109000"/>
              </a:lnSpc>
              <a:buClr>
                <a:srgbClr val="3399ff"/>
              </a:buClr>
              <a:buFont typeface="Times New Roman"/>
              <a:buChar char="•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ar-SA" sz="2400" spc="-1" strike="noStrike">
                <a:solidFill>
                  <a:srgbClr val="111111"/>
                </a:solidFill>
                <a:latin typeface="Times New Roman"/>
                <a:ea typeface="Simplified Arabic"/>
              </a:rPr>
              <a:t> لذا يجب على المراجع تقييم عمل الخبير ليكون راضيا تماماً عن نتائج هذا العمل وأنه يمكن الاعتماد عليها فى اصدار تقريره 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1560" y="4470480"/>
            <a:ext cx="832032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 fontScale="86000"/>
          </a:bodyPr>
          <a:p>
            <a:pPr marL="487080" indent="-320400" algn="r" rtl="1">
              <a:lnSpc>
                <a:spcPct val="109000"/>
              </a:lnSpc>
              <a:buClr>
                <a:srgbClr val="3399ff"/>
              </a:buClr>
              <a:buFont typeface="Times New Roman"/>
              <a:buChar char="•"/>
              <a:tabLst>
                <a:tab algn="l" pos="56664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ar-SA" sz="2400" spc="-1" strike="noStrike">
                <a:solidFill>
                  <a:srgbClr val="111111"/>
                </a:solidFill>
                <a:latin typeface="Times New Roman"/>
                <a:cs typeface="Simplified Arabic"/>
              </a:rPr>
              <a:t>اذا كان لابد من الاشارة فى تقرير المراجع لابد من الحصول على موافقة الخبير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0680" y="5675400"/>
            <a:ext cx="831996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 fontScale="85000"/>
          </a:bodyPr>
          <a:p>
            <a:pPr marL="481320" indent="-316800" algn="r" rtl="1">
              <a:lnSpc>
                <a:spcPct val="109000"/>
              </a:lnSpc>
              <a:buClr>
                <a:srgbClr val="3399ff"/>
              </a:buClr>
              <a:buFont typeface="Times New Roman"/>
              <a:buChar char="•"/>
              <a:tabLst>
                <a:tab algn="l" pos="56664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ar-SA" sz="2400" spc="-1" strike="noStrike">
                <a:solidFill>
                  <a:srgbClr val="111111"/>
                </a:solidFill>
                <a:latin typeface="Times New Roman"/>
                <a:ea typeface="Simplified Arabic"/>
              </a:rPr>
              <a:t> اذا كان لابد من الاشارة فى تقرير المراجع ورفض الخبير فيجب الحصول على الرأى القانونى لتحديد ما يجب عمله ومدى مسئوليته 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4960" y="2087640"/>
            <a:ext cx="8292960" cy="487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marL="758880" indent="0" algn="r" rtl="1">
              <a:lnSpc>
                <a:spcPct val="10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11111"/>
                </a:solidFill>
                <a:latin typeface="Times New Roman"/>
                <a:ea typeface="Simplified Arabic"/>
              </a:rPr>
              <a:t>1</a:t>
            </a:r>
            <a:r>
              <a:rPr b="0" lang="ar-SA" sz="2400" spc="-1" strike="noStrike">
                <a:solidFill>
                  <a:srgbClr val="111111"/>
                </a:solidFill>
                <a:latin typeface="Times New Roman"/>
                <a:ea typeface="Simplified Arabic"/>
              </a:rPr>
              <a:t>- التعاون المشترك 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 algn="r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111111"/>
                </a:solidFill>
                <a:latin typeface="Times New Roman"/>
                <a:cs typeface="Simplified Arabic"/>
              </a:rPr>
              <a:t>مدى اعتماد المراجع الخارجى على المراجعة الداخل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4880" y="2739960"/>
            <a:ext cx="83203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/>
          </a:bodyPr>
          <a:p>
            <a:pPr marL="566640" indent="-372960" algn="r" rtl="1">
              <a:lnSpc>
                <a:spcPct val="109000"/>
              </a:lnSpc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ar-SA" sz="2400" spc="-1" strike="noStrike">
                <a:solidFill>
                  <a:srgbClr val="111111"/>
                </a:solidFill>
                <a:latin typeface="Times New Roman"/>
                <a:ea typeface="Simplified Arabic"/>
              </a:rPr>
              <a:t>2</a:t>
            </a:r>
            <a:r>
              <a:rPr b="0" lang="ar-SA" sz="2400" spc="-1" strike="noStrike">
                <a:solidFill>
                  <a:srgbClr val="111111"/>
                </a:solidFill>
                <a:latin typeface="Times New Roman"/>
                <a:ea typeface="Simplified Arabic"/>
              </a:rPr>
              <a:t>- تقييم وظيفة المراجعة الداخلية 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6120" y="3444840"/>
            <a:ext cx="83199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/>
          </a:bodyPr>
          <a:p>
            <a:pPr marL="758880" indent="-372960" algn="r" rtl="1">
              <a:lnSpc>
                <a:spcPct val="109000"/>
              </a:lnSpc>
              <a:tabLst>
                <a:tab algn="l" pos="0"/>
                <a:tab algn="l" pos="56664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ar-SA" sz="2400" spc="-1" strike="noStrike">
                <a:solidFill>
                  <a:srgbClr val="111111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111111"/>
                </a:solidFill>
                <a:latin typeface="Times New Roman"/>
                <a:ea typeface="Simplified Arabic"/>
              </a:rPr>
              <a:t>- تقييم وأختبار عمل المراجعة الداخلية 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07600" y="1893600"/>
            <a:ext cx="82933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 fontScale="99000"/>
          </a:bodyPr>
          <a:p>
            <a:pPr marL="287280" indent="-287280" algn="r" rtl="1">
              <a:lnSpc>
                <a:spcPct val="10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11111"/>
                </a:solidFill>
                <a:latin typeface="Times New Roman"/>
                <a:cs typeface="Simplified Arabic"/>
              </a:rPr>
              <a:t>تتطلب معايير المراجعة الدولية تفهماً كافياً لعمل المراجع الداخلى وهذا التقييم سيؤثر بالضرورة على تقييم المراجع الخارجى لبيئة الرقابة ومخاطر المراجعة 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 algn="r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Times New Roman"/>
                <a:cs typeface="Simplified Arabic"/>
              </a:rPr>
              <a:t>مدى اعتماد المراجع الخارجى على المراجعة الداخلية</a:t>
            </a:r>
            <a:br>
              <a:rPr sz="1600"/>
            </a:br>
            <a:br>
              <a:rPr sz="1600"/>
            </a:br>
            <a:r>
              <a:rPr b="1" lang="ar-SA" sz="1600" spc="-1" strike="noStrike">
                <a:solidFill>
                  <a:srgbClr val="111111"/>
                </a:solidFill>
                <a:latin typeface="Times New Roman"/>
                <a:ea typeface="Simplified Arabic"/>
              </a:rPr>
              <a:t> </a:t>
            </a:r>
            <a:r>
              <a:rPr b="0" lang="ar-SA" sz="3600" spc="-1" strike="noStrike">
                <a:solidFill>
                  <a:srgbClr val="111111"/>
                </a:solidFill>
                <a:latin typeface="Times New Roman"/>
                <a:ea typeface="Simplified Arabic"/>
              </a:rPr>
              <a:t>2</a:t>
            </a:r>
            <a:r>
              <a:rPr b="0" lang="ar-SA" sz="3600" spc="-1" strike="noStrike">
                <a:solidFill>
                  <a:srgbClr val="111111"/>
                </a:solidFill>
                <a:latin typeface="Times New Roman"/>
                <a:ea typeface="Simplified Arabic"/>
              </a:rPr>
              <a:t>- تقييم وظيفة المراجعة الداخلية</a:t>
            </a:r>
            <a:r>
              <a:rPr b="0" lang="ar-SA" sz="3600" spc="-1" strike="noStrike">
                <a:solidFill>
                  <a:srgbClr val="111111"/>
                </a:solidFill>
                <a:latin typeface="Times New Roman"/>
                <a:ea typeface="Simplified Arabic"/>
              </a:rPr>
              <a:t>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2879640"/>
            <a:ext cx="8153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 fontScale="87000"/>
          </a:bodyPr>
          <a:p>
            <a:pPr lvl="1" marL="575640" indent="-240120" algn="r" rtl="1">
              <a:lnSpc>
                <a:spcPct val="10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11111"/>
                </a:solidFill>
                <a:latin typeface="Times New Roman"/>
                <a:cs typeface="Simplified Arabic"/>
              </a:rPr>
              <a:t>العوامل التى تؤخذ فى الأعتبار عند تقييم وظيفة المراجعة الداخلية : 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6400" y="3459240"/>
            <a:ext cx="83203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 fontScale="74000"/>
          </a:bodyPr>
          <a:p>
            <a:pPr marL="990000" indent="-213480" algn="r" rtl="1">
              <a:lnSpc>
                <a:spcPct val="109000"/>
              </a:lnSpc>
              <a:buClr>
                <a:srgbClr val="3399ff"/>
              </a:buClr>
              <a:buFont typeface="Wingdings" charset="2"/>
              <a:buChar char=""/>
              <a:tabLst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ar-SA" sz="1800" spc="-1" strike="noStrike">
                <a:solidFill>
                  <a:srgbClr val="111111"/>
                </a:solidFill>
                <a:latin typeface="Times New Roman"/>
                <a:cs typeface="Simplified Arabic"/>
              </a:rPr>
              <a:t>موقع المراجعة الداخلية فى الهيكل التنظيمى (محايد / مستقل / حرية الاتصال)</a:t>
            </a:r>
            <a:r>
              <a:rPr b="0" lang="ar-SA" sz="1800" spc="-1" strike="noStrike">
                <a:solidFill>
                  <a:srgbClr val="111111"/>
                </a:solidFill>
                <a:latin typeface="Times New Roman"/>
                <a:ea typeface="Simplified Arabic"/>
              </a:rPr>
              <a:t> 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4040" y="3987720"/>
            <a:ext cx="83199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/>
          </a:bodyPr>
          <a:p>
            <a:pPr marL="1614600" indent="-373320" algn="r" rtl="1">
              <a:lnSpc>
                <a:spcPct val="109000"/>
              </a:lnSpc>
              <a:buClr>
                <a:srgbClr val="3399ff"/>
              </a:buClr>
              <a:buFont typeface="Wingdings" charset="2"/>
              <a:buChar char=""/>
              <a:tabLst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ar-SA" sz="1800" spc="-1" strike="noStrike">
                <a:solidFill>
                  <a:srgbClr val="111111"/>
                </a:solidFill>
                <a:latin typeface="Times New Roman"/>
                <a:cs typeface="Simplified Arabic"/>
              </a:rPr>
              <a:t>نطاق عمل المراجعة الداخلية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24040" y="4402080"/>
            <a:ext cx="831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/>
          </a:bodyPr>
          <a:p>
            <a:pPr marL="1614600" indent="-373320" algn="r" rtl="1">
              <a:lnSpc>
                <a:spcPct val="109000"/>
              </a:lnSpc>
              <a:buClr>
                <a:srgbClr val="3399ff"/>
              </a:buClr>
              <a:buFont typeface="Wingdings" charset="2"/>
              <a:buChar char=""/>
              <a:tabLst>
                <a:tab algn="l" pos="95256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ar-SA" sz="1800" spc="-1" strike="noStrike">
                <a:solidFill>
                  <a:srgbClr val="111111"/>
                </a:solidFill>
                <a:latin typeface="Times New Roman"/>
                <a:cs typeface="Simplified Arabic"/>
              </a:rPr>
              <a:t>مدى الاهتمام بتنفيذ توصيات المراجعة الداخلية</a:t>
            </a:r>
            <a:r>
              <a:rPr b="0" lang="ar-SA" sz="2400" spc="-1" strike="noStrike">
                <a:solidFill>
                  <a:srgbClr val="111111"/>
                </a:solidFill>
                <a:latin typeface="Times New Roman"/>
                <a:ea typeface="Simplified Arabic"/>
              </a:rPr>
              <a:t> 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1880" y="4886280"/>
            <a:ext cx="83203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 fontScale="94000"/>
          </a:bodyPr>
          <a:p>
            <a:pPr marL="1257480" indent="-350280" algn="r" rtl="1">
              <a:lnSpc>
                <a:spcPct val="109000"/>
              </a:lnSpc>
              <a:buClr>
                <a:srgbClr val="3399ff"/>
              </a:buClr>
              <a:buFont typeface="Wingdings" charset="2"/>
              <a:buChar char=""/>
              <a:tabLst>
                <a:tab algn="l" pos="124308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ar-SA" sz="1800" spc="-1" strike="noStrike">
                <a:solidFill>
                  <a:srgbClr val="111111"/>
                </a:solidFill>
                <a:latin typeface="Times New Roman"/>
                <a:cs typeface="Simplified Arabic"/>
              </a:rPr>
              <a:t>الكفاءة الفنية للمراجعين الداخليين</a:t>
            </a:r>
            <a:r>
              <a:rPr b="0" lang="ar-SA" sz="2400" spc="-1" strike="noStrike">
                <a:solidFill>
                  <a:srgbClr val="111111"/>
                </a:solidFill>
                <a:latin typeface="Times New Roman"/>
                <a:ea typeface="Simplified Arabic"/>
              </a:rPr>
              <a:t> 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0520" y="5367240"/>
            <a:ext cx="831996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 fontScale="65000"/>
          </a:bodyPr>
          <a:p>
            <a:pPr marL="932400" indent="-242280" algn="r" rtl="1">
              <a:lnSpc>
                <a:spcPct val="109000"/>
              </a:lnSpc>
              <a:buClr>
                <a:srgbClr val="3399ff"/>
              </a:buClr>
              <a:buFont typeface="Wingdings" charset="2"/>
              <a:buChar char=""/>
              <a:tabLst>
                <a:tab algn="l" pos="5666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ar-SA" sz="1800" spc="-1" strike="noStrike">
                <a:solidFill>
                  <a:srgbClr val="111111"/>
                </a:solidFill>
                <a:latin typeface="Times New Roman"/>
                <a:cs typeface="Simplified Arabic"/>
              </a:rPr>
              <a:t>العناية المهنية (تخطيط وتنفيذ المراجعة والأشراف المناسب وبرامج مراجعة وجداول زمنية مناسبة)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6116760"/>
            <a:ext cx="83199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 fontScale="70000"/>
          </a:bodyPr>
          <a:p>
            <a:pPr marL="135360" indent="-135360" algn="r" rtl="1">
              <a:lnSpc>
                <a:spcPct val="109000"/>
              </a:lnSpc>
              <a:buClr>
                <a:srgbClr val="3399ff"/>
              </a:buClr>
              <a:buFont typeface="Times New Roman"/>
              <a:buChar char="•"/>
              <a:tabLst>
                <a:tab algn="l" pos="56664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ar-SA" sz="1800" spc="-1" strike="noStrike">
                <a:solidFill>
                  <a:srgbClr val="111111"/>
                </a:solidFill>
                <a:latin typeface="Times New Roman"/>
                <a:cs typeface="Simplified Arabic"/>
              </a:rPr>
              <a:t>يجب توثيق تقييم المراجع الخارجى لوظيفة المراجعة الداخلية بالأضافة الى تحديث هذا التقييم سنوياً 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80600" y="1685880"/>
            <a:ext cx="8293320" cy="76536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marL="290520" indent="-290520" algn="r" rtl="1">
              <a:lnSpc>
                <a:spcPct val="10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111111"/>
                </a:solidFill>
                <a:latin typeface="Times New Roman"/>
                <a:cs typeface="Simplified Arabic"/>
              </a:rPr>
              <a:t>عندما يقرر المراجع الخارجى الاعتماد على عمل المراجعة الداخلية يجب أن يأخذ فى الاعتبارالعوامل التالية </a:t>
            </a:r>
            <a:r>
              <a:rPr b="0" lang="ar-SA" sz="2000" spc="-1" strike="noStrike" u="sng">
                <a:solidFill>
                  <a:srgbClr val="111111"/>
                </a:solidFill>
                <a:uFillTx/>
                <a:latin typeface="Times New Roman"/>
                <a:cs typeface="Simplified Arabic"/>
              </a:rPr>
              <a:t>عند التخطيط</a:t>
            </a:r>
            <a:r>
              <a:rPr b="0" lang="ar-SA" sz="2000" spc="-1" strike="noStrike">
                <a:solidFill>
                  <a:srgbClr val="111111"/>
                </a:solidFill>
                <a:latin typeface="Times New Roman"/>
                <a:ea typeface="Simplified Arabic"/>
              </a:rPr>
              <a:t> 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 algn="r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Times New Roman"/>
                <a:cs typeface="Simplified Arabic"/>
              </a:rPr>
              <a:t>مدى اعتماد المراجع الخارجى على المراجعة الداخلية</a:t>
            </a:r>
            <a:br>
              <a:rPr sz="1600"/>
            </a:br>
            <a:br>
              <a:rPr sz="1600"/>
            </a:br>
            <a:r>
              <a:rPr b="1" lang="ar-SA" sz="1600" spc="-1" strike="noStrike">
                <a:solidFill>
                  <a:srgbClr val="111111"/>
                </a:solidFill>
                <a:latin typeface="Times New Roman"/>
                <a:ea typeface="Simplified Arabic"/>
              </a:rPr>
              <a:t> </a:t>
            </a:r>
            <a:r>
              <a:rPr b="0" lang="ar-SA" sz="3600" spc="-1" strike="noStrike">
                <a:solidFill>
                  <a:srgbClr val="111111"/>
                </a:solidFill>
                <a:latin typeface="Times New Roman"/>
                <a:ea typeface="Simplified Arabic"/>
              </a:rPr>
              <a:t>3</a:t>
            </a:r>
            <a:r>
              <a:rPr b="0" lang="ar-SA" sz="3600" spc="-1" strike="noStrike">
                <a:solidFill>
                  <a:srgbClr val="111111"/>
                </a:solidFill>
                <a:latin typeface="Times New Roman"/>
                <a:ea typeface="Simplified Arabic"/>
              </a:rPr>
              <a:t>- تقييم واختبارعمل المراجعة الداخلية</a:t>
            </a:r>
            <a:r>
              <a:rPr b="0" lang="ar-SA" sz="2000" spc="-1" strike="noStrike">
                <a:solidFill>
                  <a:srgbClr val="111111"/>
                </a:solidFill>
                <a:latin typeface="Times New Roman"/>
                <a:ea typeface="Simplified Arabic"/>
              </a:rPr>
              <a:t> </a:t>
            </a:r>
            <a:r>
              <a:rPr b="0" lang="ar-SA" sz="1600" spc="-1" strike="noStrike">
                <a:solidFill>
                  <a:srgbClr val="111111"/>
                </a:solidFill>
                <a:latin typeface="Times New Roman"/>
                <a:ea typeface="Simplified Arabic"/>
              </a:rPr>
              <a:t>(</a:t>
            </a:r>
            <a:r>
              <a:rPr b="0" lang="ar-SA" sz="1600" spc="-1" strike="noStrike">
                <a:solidFill>
                  <a:srgbClr val="111111"/>
                </a:solidFill>
                <a:latin typeface="Times New Roman"/>
                <a:ea typeface="Simplified Arabic"/>
              </a:rPr>
              <a:t>1</a:t>
            </a:r>
            <a:r>
              <a:rPr b="0" lang="ar-SA" sz="1600" spc="-1" strike="noStrike">
                <a:solidFill>
                  <a:srgbClr val="111111"/>
                </a:solidFill>
                <a:latin typeface="Times New Roman"/>
                <a:ea typeface="Simplified Arabic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3360" y="2575080"/>
            <a:ext cx="75564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 fontScale="80000"/>
          </a:bodyPr>
          <a:p>
            <a:pPr lvl="1" marL="529560" indent="-220680" algn="r" rtl="1">
              <a:lnSpc>
                <a:spcPct val="109000"/>
              </a:lnSpc>
              <a:buClr>
                <a:srgbClr val="33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111111"/>
                </a:solidFill>
                <a:latin typeface="Times New Roman"/>
                <a:cs typeface="Simplified Arabic"/>
              </a:rPr>
              <a:t>تحديد الاهمية النسبية للبنود أو المناطق التى سيتم الاعتماد على عمل المراجع الداخلى فيها</a:t>
            </a:r>
            <a:r>
              <a:rPr b="0" lang="ar-SA" sz="2400" spc="-1" strike="noStrike">
                <a:solidFill>
                  <a:srgbClr val="111111"/>
                </a:solidFill>
                <a:latin typeface="Times New Roman"/>
                <a:ea typeface="Simplified Arabic"/>
              </a:rPr>
              <a:t> 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3800" y="3059280"/>
            <a:ext cx="77234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/>
          </a:bodyPr>
          <a:p>
            <a:pPr marL="855720" indent="-372960" algn="r" rtl="1">
              <a:lnSpc>
                <a:spcPct val="109000"/>
              </a:lnSpc>
              <a:buClr>
                <a:srgbClr val="3399ff"/>
              </a:buClr>
              <a:buFont typeface="Wingdings" charset="2"/>
              <a:buChar char="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ar-SA" sz="1800" spc="-1" strike="noStrike">
                <a:solidFill>
                  <a:srgbClr val="111111"/>
                </a:solidFill>
                <a:latin typeface="Times New Roman"/>
                <a:cs typeface="Simplified Arabic"/>
              </a:rPr>
              <a:t>تحديد مخاطر المراجعة المتأصلة لهذه البنود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24040" y="3503520"/>
            <a:ext cx="7557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 fontScale="59000"/>
          </a:bodyPr>
          <a:p>
            <a:pPr marL="561960" indent="-219960" algn="r" rtl="1">
              <a:lnSpc>
                <a:spcPct val="109000"/>
              </a:lnSpc>
              <a:buClr>
                <a:srgbClr val="3399ff"/>
              </a:buClr>
              <a:buFont typeface="Wingdings" charset="2"/>
              <a:buChar char="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ar-SA" sz="1800" spc="-1" strike="noStrike">
                <a:solidFill>
                  <a:srgbClr val="111111"/>
                </a:solidFill>
                <a:latin typeface="Times New Roman"/>
                <a:cs typeface="Simplified Arabic"/>
              </a:rPr>
              <a:t>نوعية اجراءات المراجعة المتممة التى سيقوم بها المراجع الخارجى بالأضافة الى عمل المراجع الداخلى 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24040" y="4084560"/>
            <a:ext cx="831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/>
          </a:bodyPr>
          <a:p>
            <a:pPr marL="1711440" indent="-373320" algn="r" rtl="1">
              <a:lnSpc>
                <a:spcPct val="109000"/>
              </a:lnSpc>
              <a:buClr>
                <a:srgbClr val="3399ff"/>
              </a:buClr>
              <a:buFont typeface="Wingdings" charset="2"/>
              <a:buChar char=""/>
              <a:tabLst>
                <a:tab algn="l" pos="95256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ar-SA" sz="1800" spc="-1" strike="noStrike">
                <a:solidFill>
                  <a:srgbClr val="111111"/>
                </a:solidFill>
                <a:latin typeface="Times New Roman"/>
                <a:cs typeface="Simplified Arabic"/>
              </a:rPr>
              <a:t>المهارات المتخصصة لدى فريق المراجعة الداخلية 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0680" y="4497480"/>
            <a:ext cx="83199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 fontScale="93000"/>
          </a:bodyPr>
          <a:p>
            <a:pPr marL="1244160" indent="-346680" algn="r" rtl="1">
              <a:lnSpc>
                <a:spcPct val="109000"/>
              </a:lnSpc>
              <a:buClr>
                <a:srgbClr val="3399ff"/>
              </a:buClr>
              <a:buFont typeface="Wingdings" charset="2"/>
              <a:buChar char=""/>
              <a:tabLst>
                <a:tab algn="l" pos="124308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ar-SA" sz="1800" spc="-1" strike="noStrike">
                <a:solidFill>
                  <a:srgbClr val="111111"/>
                </a:solidFill>
                <a:latin typeface="Times New Roman"/>
                <a:cs typeface="Simplified Arabic"/>
              </a:rPr>
              <a:t>الكفاءة الفنية للمراجعين الداخليين</a:t>
            </a:r>
            <a:r>
              <a:rPr b="0" lang="ar-SA" sz="2400" spc="-1" strike="noStrike">
                <a:solidFill>
                  <a:srgbClr val="111111"/>
                </a:solidFill>
                <a:latin typeface="Times New Roman"/>
                <a:ea typeface="Simplified Arabic"/>
              </a:rPr>
              <a:t> 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6120" y="5146560"/>
            <a:ext cx="831996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normAutofit fontScale="79000"/>
          </a:bodyPr>
          <a:p>
            <a:pPr marL="294480" indent="-294480" algn="r" rtl="1">
              <a:lnSpc>
                <a:spcPct val="109000"/>
              </a:lnSpc>
              <a:buClr>
                <a:srgbClr val="3399ff"/>
              </a:buClr>
              <a:buFont typeface="Times New Roman"/>
              <a:buChar char="•"/>
              <a:tabLst>
                <a:tab algn="l" pos="56664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ar-SA" sz="1800" spc="-1" strike="noStrike">
                <a:solidFill>
                  <a:srgbClr val="111111"/>
                </a:solidFill>
                <a:latin typeface="Times New Roman"/>
                <a:cs typeface="Simplified Arabic"/>
              </a:rPr>
              <a:t>تحديد مدى الاعتماد المخطط على المراجعة الداخلية وتوثيقة فى مذكرة التخطيط 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20:57:47Z</dcterms:created>
  <dc:creator>AMERRITT</dc:creator>
  <dc:description/>
  <dc:language>en-US</dc:language>
  <cp:lastModifiedBy>agamal</cp:lastModifiedBy>
  <cp:lastPrinted>2000-08-01T20:59:04Z</cp:lastPrinted>
  <dcterms:modified xsi:type="dcterms:W3CDTF">2003-04-23T11:23:34Z</dcterms:modified>
  <cp:revision>289</cp:revision>
  <dc:subject/>
  <dc:title>No Slide Title</dc:title>
</cp:coreProperties>
</file>